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19.wmf" ContentType="image/x-wmf"/>
  <Override PartName="/ppt/media/image2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9007-2203-4412-BE6B-02F2D967B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3F1C-CF1E-4D80-8665-CC68243A4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BBBD-19A1-4357-810D-1EEAC03F1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E9DD-E6E4-4174-8A95-186A62B15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2AE3-8E85-495E-8F4B-782F1288F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5E22-27D0-4114-9E7B-17954974A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3281-E190-4E1B-8698-B635EBDB5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8910-C502-4EF9-AEB7-91F6CAB4D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B56E-A7BD-4AEE-BBA1-B609659EE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79D9-FF08-43F5-8690-7971892D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47BF-18D7-482B-B7EE-F4B8E744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AD52-31EC-41F7-BD1C-F7C6E336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0B583-D181-4D1B-9EE3-B93333240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wmf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0" descr="%takaTeX&#13;&#10;\documentclass{jarticle}\pagestyle{empty}&#13;&#10;\begin{document}\huge&#13;&#10;$$&#13;&#10;F=ma&#13;&#10;$$&#13;&#10;\end{document}&#13;&#10;"/>
          <p:cNvPicPr/>
          <p:nvPr/>
        </p:nvPicPr>
        <p:blipFill>
          <a:blip r:embed="rId1"/>
          <a:stretch/>
        </p:blipFill>
        <p:spPr>
          <a:xfrm>
            <a:off x="2286000" y="2286000"/>
            <a:ext cx="914400" cy="1951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6" descr="%takaTeX&#13;&#10;\documentclass{jarticle}&#13;&#10;\usepackage{color}\pagestyle{empty}&#13;&#10;\begin{document}\LARGE\color{blue}&#13;&#10;$$&#13;&#10;Q=CV&#13;&#10;$$&#13;&#10;\end{document}&#13;&#10;"/>
          <p:cNvPicPr/>
          <p:nvPr/>
        </p:nvPicPr>
        <p:blipFill>
          <a:blip r:embed="rId2"/>
          <a:stretch/>
        </p:blipFill>
        <p:spPr>
          <a:xfrm>
            <a:off x="7238880" y="2819520"/>
            <a:ext cx="795600" cy="2077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7" descr="%takaTeX&#13;&#10;\documentclass{jarticle}&#13;&#10;\usepackage{color}\pagestyle{empty}&#13;&#10;\begin{document}\LARGE\color{green}&#13;&#10;$$&#13;&#10;I=\frac{V}{R}&#13;&#10;$$&#13;&#10;\end{document}&#13;&#10;"/>
          <p:cNvPicPr/>
          <p:nvPr/>
        </p:nvPicPr>
        <p:blipFill>
          <a:blip r:embed="rId3"/>
          <a:stretch/>
        </p:blipFill>
        <p:spPr>
          <a:xfrm>
            <a:off x="1752480" y="2895480"/>
            <a:ext cx="586080" cy="470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0" descr="%takaTeX&#13;&#10;\documentclass{jarticle}&#13;&#10;\usepackage{color}\pagestyle{empty}&#13;&#10;\begin{document}\LARGE\color{blue}&#13;&#10;$$&#13;&#10;U = \int F\cdot d\ell&#13;&#10;$$&#13;&#10;\end{document}&#13;&#10;"/>
          <p:cNvPicPr/>
          <p:nvPr/>
        </p:nvPicPr>
        <p:blipFill>
          <a:blip r:embed="rId4"/>
          <a:stretch/>
        </p:blipFill>
        <p:spPr>
          <a:xfrm>
            <a:off x="6705720" y="5943600"/>
            <a:ext cx="1172880" cy="311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6" descr="%takaTeX&#13;&#10;\documentclass{jarticle}&#13;&#10;\usepackage{color}\pagestyle{empty}&#13;&#10;\begin{document}\LARGE\color{black}&#13;&#10;$$&#13;&#10;Q=CV&#13;&#10;$$&#13;&#10;\end{document}&#13;&#10;"/>
          <p:cNvPicPr/>
          <p:nvPr/>
        </p:nvPicPr>
        <p:blipFill>
          <a:blip r:embed="rId5"/>
          <a:stretch/>
        </p:blipFill>
        <p:spPr>
          <a:xfrm>
            <a:off x="4572000" y="5638680"/>
            <a:ext cx="795240" cy="208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6" descr="%takaTeX&#13;&#10;\documentclass{jarticle}&#13;&#10;\usepackage{color}\pagestyle{empty}&#13;&#10;\begin{document}\LARGE\color{black}&#13;&#10;\pagecolor{yellow}&#13;&#10;$$&#13;&#10;a_n=\int_0^{2\pi} f(x)\sin(nx)dx&#13;&#10;$$&#13;&#10;\end{document}&#13;&#10;"/>
          <p:cNvPicPr/>
          <p:nvPr/>
        </p:nvPicPr>
        <p:blipFill>
          <a:blip r:embed="rId6"/>
          <a:stretch/>
        </p:blipFill>
        <p:spPr>
          <a:xfrm>
            <a:off x="2438280" y="3886200"/>
            <a:ext cx="2206800" cy="365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7" descr="%takaTeX&#13;&#10;\documentclass{jarticle}&#13;&#10;\usepackage{color}\pagestyle{empty}&#13;&#10;\begin{document}\LARGE\color{blue}&#13;&#10;\pagecolor{yellow}&#13;&#10;$$&#13;&#10;b_n=\int_{0}^{2\pi} f(x)\cos(nx)dx&#13;&#10;$$&#13;&#10;\end{document}&#13;&#10;"/>
          <p:cNvPicPr/>
          <p:nvPr/>
        </p:nvPicPr>
        <p:blipFill>
          <a:blip r:embed="rId7"/>
          <a:stretch/>
        </p:blipFill>
        <p:spPr>
          <a:xfrm>
            <a:off x="4648320" y="762120"/>
            <a:ext cx="3809880" cy="630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8" descr="%takaTeX&#13;&#10;\documentclass{jarticle}&#13;&#10;\usepackage{color}\pagestyle{empty}&#13;&#10;\begin{document}\LARGE\color{black}&#13;&#10;taka\TeX&#13;&#10;\end{document}&#13;&#10;"/>
          <p:cNvPicPr/>
          <p:nvPr/>
        </p:nvPicPr>
        <p:blipFill>
          <a:blip r:embed="rId8"/>
          <a:stretch/>
        </p:blipFill>
        <p:spPr>
          <a:xfrm>
            <a:off x="914400" y="3581280"/>
            <a:ext cx="782640" cy="222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9" descr="%takaTeX&#13;&#10;\documentclass{jarticle}&#13;&#10;\usepackage{color}\pagestyle{empty}&#13;&#10;\begin{document}\Huge\color{blue}&#13;&#10;taka\TeX&#13;&#10;\end{document}&#13;&#10;"/>
          <p:cNvPicPr/>
          <p:nvPr/>
        </p:nvPicPr>
        <p:blipFill>
          <a:blip r:embed="rId9"/>
          <a:stretch/>
        </p:blipFill>
        <p:spPr>
          <a:xfrm>
            <a:off x="2514600" y="2797200"/>
            <a:ext cx="4114800" cy="1165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1" descr="%takaTeX&#13;&#10;\documentclass{jarticle}&#13;&#10;\usepackage{color}\pagestyle{empty}&#13;&#10;\begin{document}\LARGE\color{black}&#13;&#10;$$&#13;&#10;c=\frac{1}{\sqrt{\varepsilon_0\mu_0}}&#13;&#10;$$&#13;&#10;\end{document}&#13;&#10;"/>
          <p:cNvPicPr/>
          <p:nvPr/>
        </p:nvPicPr>
        <p:blipFill>
          <a:blip r:embed="rId10"/>
          <a:stretch/>
        </p:blipFill>
        <p:spPr>
          <a:xfrm>
            <a:off x="3352680" y="609480"/>
            <a:ext cx="978120" cy="549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3" descr="%takaTeX&#13;&#10;\documentclass{jarticle}&#13;&#10;\usepackage{color}\pagestyle{empty}&#13;&#10;\begin{document}\LARGE\color{red}&#13;&#10;$$&#13;&#10;\nabla\times E = -\frac{\partial B}{\partial t}&#13;&#10;$$&#13;&#10;\end{document}&#13;&#10;"/>
          <p:cNvPicPr/>
          <p:nvPr/>
        </p:nvPicPr>
        <p:blipFill>
          <a:blip r:embed="rId11"/>
          <a:stretch/>
        </p:blipFill>
        <p:spPr>
          <a:xfrm>
            <a:off x="3809880" y="1981080"/>
            <a:ext cx="1424160" cy="484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5" descr="%takaTeX&#13;&#10;\documentclass{jarticle}&#13;&#10;\usepackage{color}\pagestyle{empty}&#13;&#10;\begin{document}\LARGE\color{blue}&#13;&#10;$$&#13;&#10;\nabla\cdot D = \rho&#13;&#10;$$&#13;&#10;\end{document}&#13;&#10;"/>
          <p:cNvPicPr/>
          <p:nvPr/>
        </p:nvPicPr>
        <p:blipFill>
          <a:blip r:embed="rId12"/>
          <a:stretch/>
        </p:blipFill>
        <p:spPr>
          <a:xfrm>
            <a:off x="7010280" y="3886200"/>
            <a:ext cx="941400" cy="222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6" descr="%takaTeX&#13;&#10;\documentclass{jarticle}&#13;&#10;\usepackage{color}\pagestyle{empty}&#13;&#10;\begin{document}\LARGE\color{black}&#13;&#10;\pagecolor{green}&#13;&#10;$$&#13;&#10;\nabla\cdot B = 0&#13;&#10;$$&#13;&#10;\end{document}&#13;&#10;"/>
          <p:cNvPicPr/>
          <p:nvPr/>
        </p:nvPicPr>
        <p:blipFill>
          <a:blip r:embed="rId13"/>
          <a:stretch/>
        </p:blipFill>
        <p:spPr>
          <a:xfrm>
            <a:off x="609480" y="2438280"/>
            <a:ext cx="914400" cy="171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7" descr="%takaTeX&#13;&#10;\documentclass{jarticle}&#13;&#10;\usepackage{color}\pagestyle{empty}&#13;&#10;\begin{document}\LARGE\color{red}&#13;&#10;\pagecolor{white}&#13;&#10;$$&#13;&#10;F(\omega)=\int_{-\infty}^{\infty} f(x) e^{i\omega t} dt&#13;&#10;$$&#13;&#10;\end{document}&#13;&#10;"/>
          <p:cNvPicPr/>
          <p:nvPr/>
        </p:nvPicPr>
        <p:blipFill>
          <a:blip r:embed="rId14"/>
          <a:stretch/>
        </p:blipFill>
        <p:spPr>
          <a:xfrm>
            <a:off x="4781520" y="4257720"/>
            <a:ext cx="2076480" cy="314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9" descr="%takaTeX&#13;&#10;\documentclass{jarticle}&#13;&#10;\usepackage{color}\pagestyle{empty}&#13;&#10;\begin{document}\LARGE\color{black}&#13;&#10;\pagecolor{white}&#13;&#10;$$&#13;&#10;f(t)=\frac{1}{2\pi}\int_{-\infty}^{\infty} &#13;&#10;F(\omega) e^{-i\omega t} d\omega&#13;&#10;$$&#13;&#10;\end{document}&#13;&#10;"/>
          <p:cNvPicPr/>
          <p:nvPr/>
        </p:nvPicPr>
        <p:blipFill>
          <a:blip r:embed="rId15"/>
          <a:stretch/>
        </p:blipFill>
        <p:spPr>
          <a:xfrm>
            <a:off x="914400" y="1371600"/>
            <a:ext cx="2521080" cy="469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1" descr="%takaTeX&#13;&#10;\documentclass{jarticle}&#13;&#10;\usepackage{color}\pagestyle{empty}&#13;&#10;\begin{document}\LARGE\color{black}&#13;&#10;$$&#13;&#10;F(\phi, k)=\int_0^\phi &#13;&#10;\frac{d\theta}{\sqrt{1-k^2\sin^2\theta}}&#13;&#10;$$&#13;&#10;\end{document}&#13;&#10;"/>
          <p:cNvPicPr/>
          <p:nvPr/>
        </p:nvPicPr>
        <p:blipFill>
          <a:blip r:embed="rId16"/>
          <a:stretch/>
        </p:blipFill>
        <p:spPr>
          <a:xfrm>
            <a:off x="5715000" y="1828800"/>
            <a:ext cx="2548080" cy="5205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3"/>
          <p:cNvSpPr/>
          <p:nvPr/>
        </p:nvSpPr>
        <p:spPr>
          <a:xfrm>
            <a:off x="1375920" y="4952880"/>
            <a:ext cx="631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数式を書くための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Point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アドイン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. 0.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007/5/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1" descr="%takaTeX&#13;&#10;\documentclass{jarticle}&#13;&#10;\usepackage{color}\pagestyle{empty}&#13;&#10;\begin{document}\LARGE\color{black}&#13;&#10;$$&#13;&#10;png&#13;&#10;$$&#13;&#10;\end{document}&#13;&#10;"/>
          <p:cNvPicPr/>
          <p:nvPr/>
        </p:nvPicPr>
        <p:blipFill>
          <a:blip r:embed="rId17"/>
          <a:stretch/>
        </p:blipFill>
        <p:spPr>
          <a:xfrm>
            <a:off x="2340000" y="1052640"/>
            <a:ext cx="365040" cy="155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4" descr="%takaTeX&#13;&#10;\documentclass{jarticle}&#13;&#10;\usepackage{color}\pagestyle{empty}&#13;&#10;\begin{document}\LARGE\color{black}&#13;&#10;$$&#13;&#10;bmp&#13;&#10;$$&#13;&#10;\end{document}&#13;&#10;"/>
          <p:cNvPicPr/>
          <p:nvPr/>
        </p:nvPicPr>
        <p:blipFill>
          <a:blip r:embed="rId18"/>
          <a:stretch/>
        </p:blipFill>
        <p:spPr>
          <a:xfrm>
            <a:off x="1763640" y="765000"/>
            <a:ext cx="393840" cy="209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7" descr="%takaTeX&#13;&#10;\documentclass{jarticle}&#13;&#10;\usepackage{color}\pagestyle{empty}&#13;&#10;\begin{document}\LARGE\color{red}&#13;&#10;$$&#13;&#10;EPS&#13;&#10;$$&#13;&#10;\end{document}&#13;&#10;"/>
          <p:cNvPicPr/>
          <p:nvPr/>
        </p:nvPicPr>
        <p:blipFill>
          <a:blip r:embed="rId19"/>
          <a:stretch/>
        </p:blipFill>
        <p:spPr>
          <a:xfrm>
            <a:off x="900000" y="981000"/>
            <a:ext cx="482760" cy="165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4" descr="%takaTeX&#13;&#10;\documentclass{jarticle}&#13;&#10;\usepackage{color}\pagestyle{empty}&#13;&#10;\begin{document}\LARGE\color{green}&#13;&#10;$$&#13;&#10;\nabla\times H = J+\frac{\partial D}{\partial t}&#13;&#10;$$&#13;&#10;\end{document}&#13;&#10;"/>
          <p:cNvPicPr/>
          <p:nvPr/>
        </p:nvPicPr>
        <p:blipFill>
          <a:blip r:embed="rId20"/>
          <a:stretch/>
        </p:blipFill>
        <p:spPr>
          <a:xfrm>
            <a:off x="684360" y="4292640"/>
            <a:ext cx="1685880" cy="484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5" descr="%takaTeX&#13;&#10;\documentclass{jarticle}&#13;&#10;\usepackage{color}\pagestyle{empty}&#13;&#10;\begin{document}\LARGE\color{black}&#13;&#10;$$&#13;&#10;k^2=\omega^2\varepsilon_0\mu_0&#13;&#10;$$&#13;&#10;\end{document}&#13;&#10;"/>
          <p:cNvPicPr/>
          <p:nvPr/>
        </p:nvPicPr>
        <p:blipFill>
          <a:blip r:embed="rId21"/>
          <a:stretch/>
        </p:blipFill>
        <p:spPr>
          <a:xfrm>
            <a:off x="1116000" y="5805360"/>
            <a:ext cx="1109520" cy="2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kaTeX 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の概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Point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アドインとして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eX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数式を記述し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画面に貼り付け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X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hostscript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BA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から呼び出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貼り付けられた画像ファイルを選択して起動すると、元のソースコードが表示されて編集可能にな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画像プロパティの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代替テキスト にソースコードが含まれてい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パイルに使用した全ての命令が含まれ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システム要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eX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一式がインストールされているこ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次のコマンド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ows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コマンドラインで実行できるこ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vip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win32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hostscript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出力デバイスとし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ngalpha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サポートしているこ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.7.07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.8.5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以降が必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soft Office PowerPoint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があるこ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インストールの方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次のいずれかの方法でアドインファイルをインストール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アドインファイル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aTeX.ppa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各ユーザーのオフィスアドインディレクトリにコピー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 XP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なら </a:t>
            </a:r>
            <a:br>
              <a:rPr sz="20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:\Documents and Settings\&lt;UserName&gt;\Application Data\Microsoft\Add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本プレゼンテーションを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Point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使ってアドインファイルとして保存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ファイル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]→[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名前を付けて保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、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ファイルの種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に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Point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アドイン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選び、そのまま保存す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Point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メニューにある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ツー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]→[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ドイン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で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参照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選び、上で保存したアドインを選択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ニューリストに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aTeX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登録され、使用可能にな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使用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ニューに登録された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aTeX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ボタンを押してフォームを開き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数式を書いて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実行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ボタンを押すと、 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eX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vipsk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hostscrip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順番に実行されて、画像が画面左上に貼り付けられ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画像ファイルの形式は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ng, bmp, eps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から選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ng, eps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背景が透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mp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バージョンにかかわらず、同じ表示にな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画像解像度がフォーム上で指定でき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ドインのソースコードはこのファイルに含まれており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B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上またはマクロとしても実行でき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028" descr="%takaTeX&#13;&#10;\documentclass{jarticle}&#13;&#10;\usepackage{color}\pagestyle{empty}&#13;&#10;\begin{document}\LARGE\color{black}&#13;&#10;$$&#13;&#10;E=mc^2&#13;&#10;$$&#13;&#10;\end{document}&#13;&#10;"/>
          <p:cNvPicPr/>
          <p:nvPr/>
        </p:nvPicPr>
        <p:blipFill>
          <a:blip r:embed="rId1"/>
          <a:stretch/>
        </p:blipFill>
        <p:spPr>
          <a:xfrm>
            <a:off x="1752480" y="1066680"/>
            <a:ext cx="8226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その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中間ファイルが環境変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で示されるディレクトリにできるが、自動的には削除されない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%\takatmp.*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Point 2000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では透過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ng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画像の表示がかすれ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画像形式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s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とき、解像度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ault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ではビットマップになるが、解像度を上げるとアウトラインにな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出力デバイ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swrite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仕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改変、配布は自由で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28"/>
          <p:cNvSpPr/>
          <p:nvPr/>
        </p:nvSpPr>
        <p:spPr>
          <a:xfrm>
            <a:off x="3674160" y="5486400"/>
            <a:ext cx="420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ahiro Morimoto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Akihiro Morimoto,  2007/5/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0T08:38:07Z</dcterms:created>
  <dc:creator>morimoto</dc:creator>
  <dc:description/>
  <dc:language>en-US</dc:language>
  <cp:lastModifiedBy>Kazumine Moriyasu</cp:lastModifiedBy>
  <dcterms:modified xsi:type="dcterms:W3CDTF">2023-01-15T01:18:14Z</dcterms:modified>
  <cp:revision>247</cp:revision>
  <dc:subject>TeX で PowerPoint に数式を描く</dc:subject>
  <dc:title>takaTeX ソースマクロ</dc:title>
</cp:coreProperties>
</file>